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0740-0EEB-47E9-890E-7381FA6A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8D8E-ABA2-4D6B-AF18-32749A0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9815-13AC-43F7-966A-8CDBC3F0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8FED-0C5A-4461-97EF-BC6690B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E01-3FA1-4D57-B475-4DE06FC7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94A1-A51B-4F87-831F-08DD73E9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3CA-F6A7-4514-A28E-1856B2A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F190-6047-4D22-8609-64997A8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2E47-B89A-4B53-99DD-25FA330A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6026-E795-4219-AB83-72E84DB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CCF-44D9-4A8B-9AEF-7F870D6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A36E-A72D-48F1-A7DB-CE94AACA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BBB8-9CBE-41FB-929C-9763010E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BA3-0CD7-4F44-AD70-CFF6076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C0BF-DDEF-4C6A-BE5B-9F60729B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7EA1-F057-438C-BFB2-695AE21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6DE7-6AEE-4D12-9F1E-8F83668B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9151-BC0F-4904-BE37-1F598C14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33DD-880E-4913-8710-C0B9B0A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C0C6-E7D1-4E60-99A7-06883DF8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82A5-F721-40CF-9D7B-E9346AD7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DA7C-B393-4EFE-8555-DB371DAA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2397-414A-48EE-9099-F8A0253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7478-6993-4C40-8989-F8FE66E6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213A-7D83-46CC-8F9E-018EEDC085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B71C-9269-4113-9A3F-E3617AC47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ŞCOALA GENERALĂ NR. 7</a:t>
            </a:r>
            <a:br>
              <a:rPr sz="5400"/>
            </a:b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TÂRGU JIU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aramond"/>
              </a:rPr>
              <a:t>Inst. Neamţu Cori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e5e5ff"/>
                </a:solidFill>
                <a:latin typeface="Garamond"/>
              </a:rPr>
              <a:t>Lumina este cea care poate influenţa culoare atât a plantelor cât şi a animalelor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Fiinţele vii şi mai ales omul , beneficiază de soare , deoarece pământul pe care-l locuiesc foloseşte energia solară pentru încălz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i pentru a avea un aer cât mai curat trebuie să avem cât mai multe plante în jurul nostru , deoarece ele se hrănesc că dioxidule de carbon pe care îl eliminăm noi atunci când respiră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Acum pentru că aţi aflat multe lucruri noi sper că veţi avea grijă  mai multă grijă de plantele şi animalele din jurul vostr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ngrijind plantele şi ocrotindu-le vom avea un mediu natural mai curat şi în acelaşi timp mai fru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304920" y="-304920"/>
            <a:ext cx="9144000" cy="68580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33520" y="519120"/>
            <a:ext cx="36576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acă vă pasă,</a:t>
            </a: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haideţi alături de no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Împreună vom reuşi să păstrăm ceea ce Dumnezeu ne-a dărui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64832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c00"/>
                </a:solidFill>
                <a:latin typeface="Tahoma"/>
              </a:rPr>
              <a:t>Terra – eternul paradis al vieţi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2867040"/>
            <a:ext cx="335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Fă-ţi timp acum, să şti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zadarnic ai să plângi ;</a:t>
            </a:r>
            <a:br>
              <a:rPr sz="3200"/>
            </a:b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Comoara risipit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a vieţii n-o mai strâng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7632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3399"/>
                </a:solidFill>
                <a:latin typeface="Tahoma"/>
              </a:rPr>
              <a:t>Fă-ţi timp s-asculţi la toa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3399"/>
                </a:solidFill>
                <a:latin typeface="Tahoma"/>
              </a:rPr>
              <a:t>din toate să înveţ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52578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Rud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99"/>
                </a:solidFill>
                <a:latin typeface="Tahoma"/>
              </a:rPr>
              <a:t>Kip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04920"/>
            <a:ext cx="2438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a886e0"/>
                </a:solidFill>
                <a:latin typeface="Tahoma"/>
              </a:rPr>
              <a:t>Fă-ţi timp să dai vieţii adevăratul preţ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00560" y="0"/>
            <a:ext cx="574344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33680" y="2795760"/>
            <a:ext cx="33526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NOAŞTREA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EDIULUI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12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47640" y="2543040"/>
            <a:ext cx="60487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influenţează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  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umina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ntele şi animalele?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2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667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ntr-o zi doi fraţi l-au rugat pe bunicul lor să le spună o poveste.Acesta le-a răspun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- Bine. Am să vă spn o poveste dacă voi îmi spuneţi unde există viaţ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ei doi copii au răspuns într-un glas:întot felul de plante şi anima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Bunicul le-a pus nepoţilor mai multe întrebăr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1792080" cy="327636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2057400" y="4114800"/>
            <a:ext cx="3914640" cy="1216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343400" y="1371600"/>
            <a:ext cx="1677960" cy="251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548160"/>
            <a:ext cx="2782800" cy="33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2743200" cy="1496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Animale domes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4952880" y="2438280"/>
            <a:ext cx="3969000" cy="441972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Animale sălbat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1295280"/>
            <a:ext cx="3657600" cy="36165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733920" y="1523880"/>
            <a:ext cx="4599000" cy="4876920"/>
            <a:chOff x="3733920" y="1523880"/>
            <a:chExt cx="4599000" cy="48769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562720" y="1523880"/>
              <a:ext cx="277020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3733920" y="4343400"/>
              <a:ext cx="168588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2000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LEGU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428840" cy="159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971800" y="129528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238140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743200" y="3276720"/>
            <a:ext cx="155268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629400" y="2590920"/>
            <a:ext cx="155268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162920" y="480060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876920" y="4114800"/>
            <a:ext cx="1361880" cy="150480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Evaluare iniţial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nimale domestice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nimale sălbatice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are este deosebirea între animalele domestice şi cele sălbatic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foloase avem de la animalele domestic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are sunt părţile corpului unui animal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legume cultivăm în grădin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La ce folosim legume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um folosim legume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e alte plante mai cunoaşteţ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La ce se folosesc plantele medicinal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Cum se pot folosi aceste plante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e5e5ff"/>
                </a:solidFill>
                <a:latin typeface="Garamond"/>
              </a:rPr>
              <a:t>-Dragii mei nepoţi , voi ştiţi cum influenţează lumina plantele şi animalel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-Nu ştim , dar te rugăm frumos să ne spui şi nouă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Şi astfel bunicul a început să le spună copiilor multe lucruri noi care pentru ei erau adevărate poveş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,, Încă din cele mai vechi timpuri oamenii au observat că plantele nu cresc bine la întuneric şi de aceea ei încearcă să le asigure cât mai multă căldură şi lumin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Lumina influenţează creşterea şi forma plantel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Plantele verzi crescute la întuneric au o tulpină lungă şi subţire , frunzele slab detvoltate şi o culoare alb-gălbuie.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De asemenea trebuie să ştiţi că lumina le ajută pe animale să se orienteze în spaţiu şi să reacţioneze la schimbările ce se produc în mediul înconjură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3:35:08Z</dcterms:created>
  <dc:creator>CATALINA</dc:creator>
  <dc:description/>
  <dc:language>en-US</dc:language>
  <cp:lastModifiedBy>CATALINA</cp:lastModifiedBy>
  <dcterms:modified xsi:type="dcterms:W3CDTF">2008-05-15T04:56:38Z</dcterms:modified>
  <cp:revision>15</cp:revision>
  <dc:subject/>
  <dc:title>Slide 1</dc:title>
</cp:coreProperties>
</file>